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8.gif" ContentType="image/gif"/>
  <Override PartName="/ppt/media/image25.png" ContentType="image/png"/>
  <Override PartName="/ppt/media/image65.wmf" ContentType="image/x-wmf"/>
  <Override PartName="/ppt/media/image31.png" ContentType="image/png"/>
  <Override PartName="/ppt/media/image24.png" ContentType="image/png"/>
  <Override PartName="/ppt/media/image67.gif" ContentType="image/gif"/>
  <Override PartName="/ppt/media/image23.png" ContentType="image/png"/>
  <Override PartName="/ppt/media/image63.wmf" ContentType="image/x-wmf"/>
  <Override PartName="/ppt/media/image66.wmf" ContentType="image/x-wmf"/>
  <Override PartName="/ppt/media/image26.png" ContentType="image/png"/>
  <Override PartName="/ppt/media/image60.gif" ContentType="image/gif"/>
  <Override PartName="/ppt/media/image62.wmf" ContentType="image/x-wmf"/>
  <Override PartName="/ppt/media/image22.png" ContentType="image/png"/>
  <Override PartName="/ppt/media/image57.wmf" ContentType="image/x-wmf"/>
  <Override PartName="/ppt/media/image21.png" ContentType="image/png"/>
  <Override PartName="/ppt/media/image59.wmf" ContentType="image/x-wmf"/>
  <Override PartName="/ppt/media/image20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64.jpeg" ContentType="image/jpe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9E1-D139-4457-ABDB-3270864A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B8D-8A7E-46B1-9DC3-C497F442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823-99D9-4E19-9ACD-CFAE446E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506-835F-47C7-946E-D95C7C36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F4C8-C37F-4AA7-98E0-D62D829F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AB5-DC11-4532-8615-29DB0876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8D2F-B805-4DF8-85A9-052F7FF9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3FAD-354B-405B-BFE0-415DED3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1937-0D35-400E-9371-3E5B97F0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DB8B-7A8F-4CA4-B3F1-64AFBE1A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7E61-EBDA-4793-B8F0-AAA7887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9FA-D53B-4BB0-8C22-C3742D7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7150-0169-4F37-8190-22FCE29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3B48-E494-4D13-B1E9-62AEB93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B89-A5C6-487D-A986-DEDF410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6F80-FCF9-4E2B-88E6-425120CF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92D3-7304-46FA-A951-E91BEE6C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2023-EF5F-4FF7-A26C-1C70C5F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FCF0-8CD5-4F07-9EFD-DD96572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0827-A21D-4ECF-9FED-0E605E50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8745-3A55-494F-BC04-31B7F3D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0407-2513-40FD-9006-C89BB47A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104-47D3-4824-B74B-2C3F20A0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514C-1D02-48A6-894B-BC90790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0BE0-755D-4F3D-A6AD-DBA3F9B6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5561-3A6E-48CB-9D4E-0B3854F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AD4A-4AE5-4EF6-B34B-9A0CFFA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653E-B584-46DF-8C58-6476EBF0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CF9B-60B5-4D68-80C5-A1E77638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9738-A7C4-4D0D-86EB-3A8BAF04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701-99EF-4CB8-AAA3-BC03453D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B6F-6B39-40AF-B05E-553D3F71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227-2812-4035-91A0-CB622CAD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EDA-B05D-4598-AB58-24CD5B1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B63-C22F-4DA0-B564-3101E451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F6C-A971-473D-80EC-71021129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25.xml"/><Relationship Id="rId52" Type="http://schemas.openxmlformats.org/officeDocument/2006/relationships/slideLayout" Target="../slideLayouts/slideLayout26.xml"/><Relationship Id="rId53" Type="http://schemas.openxmlformats.org/officeDocument/2006/relationships/slideLayout" Target="../slideLayouts/slideLayout27.xml"/><Relationship Id="rId54" Type="http://schemas.openxmlformats.org/officeDocument/2006/relationships/slideLayout" Target="../slideLayouts/slideLayout28.xml"/><Relationship Id="rId55" Type="http://schemas.openxmlformats.org/officeDocument/2006/relationships/slideLayout" Target="../slideLayouts/slideLayout29.xml"/><Relationship Id="rId56" Type="http://schemas.openxmlformats.org/officeDocument/2006/relationships/slideLayout" Target="../slideLayouts/slideLayout30.xml"/><Relationship Id="rId57" Type="http://schemas.openxmlformats.org/officeDocument/2006/relationships/slideLayout" Target="../slideLayouts/slideLayout31.xml"/><Relationship Id="rId58" Type="http://schemas.openxmlformats.org/officeDocument/2006/relationships/slideLayout" Target="../slideLayouts/slideLayout32.xml"/><Relationship Id="rId59" Type="http://schemas.openxmlformats.org/officeDocument/2006/relationships/slideLayout" Target="../slideLayouts/slideLayout33.xml"/><Relationship Id="rId60" Type="http://schemas.openxmlformats.org/officeDocument/2006/relationships/slideLayout" Target="../slideLayouts/slideLayout34.xml"/><Relationship Id="rId61" Type="http://schemas.openxmlformats.org/officeDocument/2006/relationships/slideLayout" Target="../slideLayouts/slideLayout35.xml"/><Relationship Id="rId6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594"/>
            </a:gs>
            <a:gs pos="100000">
              <a:srgbClr val="568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070E-F3FF-4031-80C0-E6963AA111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594"/>
            </a:gs>
            <a:gs pos="100000">
              <a:srgbClr val="568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F5B0-D61E-46F4-92A4-2E5AA85986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594"/>
            </a:gs>
            <a:gs pos="100000">
              <a:srgbClr val="568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420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23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426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429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432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435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438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441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444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447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450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453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456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59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62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5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68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471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474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477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480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483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486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489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492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495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498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501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505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508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512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515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519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522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525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529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532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537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541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544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547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550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553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556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559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562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0b57a">
              <a:alpha val="5000"/>
            </a:srgbClr>
          </a:solidFill>
          <a:ln cap="rnd" w="12600">
            <a:solidFill>
              <a:srgbClr val="f0b57a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567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570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573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7438-3666-44A1-9572-F3E8E2F96F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1"/>
    <p:sldLayoutId id="2147483676" r:id="rId52"/>
    <p:sldLayoutId id="2147483677" r:id="rId53"/>
    <p:sldLayoutId id="2147483678" r:id="rId54"/>
    <p:sldLayoutId id="2147483679" r:id="rId55"/>
    <p:sldLayoutId id="2147483680" r:id="rId56"/>
    <p:sldLayoutId id="2147483681" r:id="rId57"/>
    <p:sldLayoutId id="2147483682" r:id="rId58"/>
    <p:sldLayoutId id="2147483683" r:id="rId59"/>
    <p:sldLayoutId id="2147483684" r:id="rId60"/>
    <p:sldLayoutId id="2147483685" r:id="rId61"/>
    <p:sldLayoutId id="2147483686" r:id="rId6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80880" y="20160"/>
            <a:ext cx="71164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lane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33520" y="2895480"/>
            <a:ext cx="711648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4e9ef"/>
                </a:solidFill>
                <a:latin typeface="Verdana"/>
              </a:rPr>
              <a:t>Ri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8" name="Picture 4" descr="C:\Documents and Settings\LaboR\Local Settings\Temporary Internet Files\Content.IE5\SL8TR2JL\MC900037210[1].wmf"/>
          <p:cNvPicPr/>
          <p:nvPr/>
        </p:nvPicPr>
        <p:blipFill>
          <a:blip r:embed="rId1"/>
          <a:stretch/>
        </p:blipFill>
        <p:spPr>
          <a:xfrm flipH="1" rot="10800000">
            <a:off x="6713640" y="3176640"/>
            <a:ext cx="46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ut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28240" y="19270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on is Pluto's only known satelli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0" name="Picture 4" descr="C:\Documents and Settings\LaboR\Local Settings\Temporary Internet Files\Content.IE5\WT2SXBTW\MC900083165[2].wmf"/>
          <p:cNvPicPr/>
          <p:nvPr/>
        </p:nvPicPr>
        <p:blipFill>
          <a:blip r:embed="rId1"/>
          <a:stretch/>
        </p:blipFill>
        <p:spPr>
          <a:xfrm flipH="1">
            <a:off x="6588000" y="4952880"/>
            <a:ext cx="193680" cy="181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C:\Documents and Settings\LaboR\Local Settings\Temporary Internet Files\Content.IE5\0JK8O7V1\MM900219074[1].gif"/>
          <p:cNvPicPr/>
          <p:nvPr/>
        </p:nvPicPr>
        <p:blipFill>
          <a:blip r:embed="rId2"/>
          <a:stretch/>
        </p:blipFill>
        <p:spPr>
          <a:xfrm>
            <a:off x="6346800" y="3954600"/>
            <a:ext cx="1501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71800" y="533520"/>
            <a:ext cx="7448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closest planet to the s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eighth largest plane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rcury is the small pl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2" name="Picture 5" descr="C:\Documents and Settings\LaboR\Local Settings\Temporary Internet Files\Content.IE5\WT2SXBTW\MC900037211[1].wmf"/>
          <p:cNvPicPr/>
          <p:nvPr/>
        </p:nvPicPr>
        <p:blipFill>
          <a:blip r:embed="rId1"/>
          <a:stretch/>
        </p:blipFill>
        <p:spPr>
          <a:xfrm>
            <a:off x="6172200" y="2514600"/>
            <a:ext cx="1649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en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nus is the same size as the eart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cold on one si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second closest planet to the Su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planetfacts.org/planet-venus-facts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6" name="Picture 5" descr="C:\Documents and Settings\LaboR\Local Settings\Temporary Internet Files\Content.IE5\B284JJ33\MC900083159[1].wmf"/>
          <p:cNvPicPr/>
          <p:nvPr/>
        </p:nvPicPr>
        <p:blipFill>
          <a:blip r:embed="rId1"/>
          <a:stretch/>
        </p:blipFill>
        <p:spPr>
          <a:xfrm>
            <a:off x="5410080" y="2133720"/>
            <a:ext cx="301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rs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37720" y="167652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ientists have just found that water is on M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9" name="Picture 4" descr="C:\Documents and Settings\LaboR\Local Settings\Temporary Internet Files\Content.IE5\0JK8O7V1\MC900037210[1].wmf"/>
          <p:cNvPicPr/>
          <p:nvPr/>
        </p:nvPicPr>
        <p:blipFill>
          <a:blip r:embed="rId1"/>
          <a:stretch/>
        </p:blipFill>
        <p:spPr>
          <a:xfrm>
            <a:off x="6629400" y="76212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arth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home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 is the same size as Venu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2" name="Picture 4" descr="j0189205"/>
          <p:cNvPicPr/>
          <p:nvPr/>
        </p:nvPicPr>
        <p:blipFill>
          <a:blip r:embed="rId1"/>
          <a:stretch/>
        </p:blipFill>
        <p:spPr>
          <a:xfrm>
            <a:off x="6172200" y="1752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C:\Documents and Settings\LaboR\Local Settings\Temporary Internet Files\Content.IE5\WT2SXBTW\MC900438213[1].wmf"/>
          <p:cNvPicPr/>
          <p:nvPr/>
        </p:nvPicPr>
        <p:blipFill>
          <a:blip r:embed="rId2"/>
          <a:stretch/>
        </p:blipFill>
        <p:spPr>
          <a:xfrm>
            <a:off x="5562720" y="152280"/>
            <a:ext cx="34290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ranus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6" name="Picture 4" descr="C:\Documents and Settings\LaboR\Local Settings\Temporary Internet Files\Content.IE5\HMETLRGX\MM900219076[1].gif"/>
          <p:cNvPicPr/>
          <p:nvPr/>
        </p:nvPicPr>
        <p:blipFill>
          <a:blip r:embed="rId1"/>
          <a:stretch/>
        </p:blipFill>
        <p:spPr>
          <a:xfrm>
            <a:off x="5614920" y="1523880"/>
            <a:ext cx="1873440" cy="1898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C:\Documents and Settings\LaboR\Local Settings\Temporary Internet Files\Content.IE5\B284JJ33\MC900083169[1].wmf"/>
          <p:cNvPicPr/>
          <p:nvPr/>
        </p:nvPicPr>
        <p:blipFill>
          <a:blip r:embed="rId2"/>
          <a:stretch/>
        </p:blipFill>
        <p:spPr>
          <a:xfrm>
            <a:off x="6470640" y="2286000"/>
            <a:ext cx="810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tur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9" name="Picture 5" descr="j0350399"/>
          <p:cNvPicPr/>
          <p:nvPr/>
        </p:nvPicPr>
        <p:blipFill>
          <a:blip r:embed="rId1"/>
          <a:stretch/>
        </p:blipFill>
        <p:spPr>
          <a:xfrm>
            <a:off x="990720" y="685800"/>
            <a:ext cx="1805040" cy="1128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turn is the second larges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1" name="Picture 4" descr="C:\Documents and Settings\LaboR\Local Settings\Temporary Internet Files\Content.IE5\HMETLRGX\MC900339842[1].wmf"/>
          <p:cNvPicPr/>
          <p:nvPr/>
        </p:nvPicPr>
        <p:blipFill>
          <a:blip r:embed="rId2"/>
          <a:stretch/>
        </p:blipFill>
        <p:spPr>
          <a:xfrm>
            <a:off x="1066680" y="2286000"/>
            <a:ext cx="23259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pi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urop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nymed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llist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4" name="Picture 4" descr="C:\Documents and Settings\LaboR\Local Settings\Temporary Internet Files\Content.IE5\HMETLRGX\MP900401287[1].jpg"/>
          <p:cNvPicPr/>
          <p:nvPr/>
        </p:nvPicPr>
        <p:blipFill>
          <a:blip r:embed="rId1"/>
          <a:stretch/>
        </p:blipFill>
        <p:spPr>
          <a:xfrm>
            <a:off x="4459320" y="26496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ptune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4e9e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ptune is the largest pl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7" name="Picture 4" descr="C:\Documents and Settings\LaboR\Local Settings\Temporary Internet Files\Content.IE5\B284JJ33\MC900037208[1].wmf"/>
          <p:cNvPicPr/>
          <p:nvPr/>
        </p:nvPicPr>
        <p:blipFill>
          <a:blip r:embed="rId1"/>
          <a:stretch/>
        </p:blipFill>
        <p:spPr>
          <a:xfrm>
            <a:off x="5506920" y="251136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22:50Z</dcterms:created>
  <dc:creator>Rachel B. Bunin</dc:creator>
  <dc:description/>
  <dc:language>en-US</dc:language>
  <cp:lastModifiedBy>Ricardo Labo</cp:lastModifiedBy>
  <cp:lastPrinted>2013-10-30T13:01:11Z</cp:lastPrinted>
  <dcterms:modified xsi:type="dcterms:W3CDTF">2013-10-30T13:04:36Z</dcterms:modified>
  <cp:revision>11</cp:revision>
  <dc:subject/>
  <dc:title>The Planets</dc:title>
</cp:coreProperties>
</file>